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D4F4-F6EC-48EF-A6F4-2CB01FB1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03ED-92E5-4CE3-806B-2E5AFC5F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8F6E-CE33-4AA5-BE2E-CBCBAC31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4D96-0BF4-4E98-B8C9-0E4D9C39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9E6F-918E-4723-8881-7656DA51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4034-05B3-4AAA-A678-58DC980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E6A-FDE2-46AB-877A-82A1192B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348B-B71B-4765-AD48-6470FAE1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863D-5E34-4E7D-B2E2-93C75EC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F392-B30D-40A4-A0E2-C9A5777E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44D6-B24D-4A42-A87C-EC9C88A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0656-617B-4CE1-9484-A1A0472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2892-7460-4E74-BC72-870ACD1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AD6D-73EA-474A-B0A6-4969E1D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14E6-B3C8-4EB9-9E07-E162524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E7B-53FB-4FF4-9383-B9E08AAD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A4B-69EC-4EF6-9B3B-7502EADF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C989-F967-4B69-8985-F65EFD56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0AB8-1D65-4432-9E2B-2167337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88E9-803D-43E2-9239-13328DF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FB4C-2079-4407-BC32-BC1A1D0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2FB1-176A-4B6B-8B5D-4190186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B8C2-FC65-4E3C-9C13-A43B0AD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C359-6A05-4BA6-901E-4AFB1F9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BC49-4D68-4C8F-BF40-2864022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794C-8ACC-4C45-9F73-49538927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79AF-4D60-418F-9CFB-C3CD4D2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F41D-27BC-4ECB-8828-2EDCB6E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4295-C2F1-4BB7-A5F8-E58D7DF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CF4F-DC78-4D39-A47D-C40C2145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8F19-86C1-4792-B612-F43F3682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B8B5-0FBF-4112-81E0-D9A985D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A7DA-4E9A-483D-9577-FE944B0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E76D-8267-4B41-9F48-DAE351F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3B34-BB9E-4152-8067-FE0939ED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BFAE3-8F4F-43CF-85B5-D268124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CAB0-C914-4543-9256-D093C084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3E88-C62E-49E5-B6EE-3B89706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82F9-6346-4194-A334-25E5A53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A841-59E6-4419-BACA-A3B2DA1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44C8-4F70-4843-B422-7A8B4113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DB05-DE00-4ACC-8CCF-5E56D89C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2900-B208-48D1-985F-79FD5EAB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25F1-8B37-4794-9D10-70A61067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2F4E-CC22-42A1-86A9-352D344E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DD3A-6714-49CE-B608-65FD3AFC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64AD8-E550-4CA0-A9D2-EB4EC3C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DFC1-B9D6-403B-B938-DC90EAD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5AE4-9675-480C-89F4-DAFB2FD0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E15D-6EA3-4DE2-922E-FFCD388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FC90-339E-4754-987A-355A89D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B687-D286-498A-9EF8-19B25ED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377A-E2B0-45E8-969B-3C8D4C3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F6B5-AC1E-41DE-91AF-796A3C6D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1C0A-71B7-4377-A895-AF49257F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9877-076B-4A81-9A06-7F6B3C4A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C1BA-93A7-4D80-A65D-640781C4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91E19-BE5D-4303-8FA8-7E68462F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A3B94-E91E-42BE-9906-B1BBC566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FEABA-14A6-4E9E-8997-C3B53A3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E4453-5732-4566-8DA7-DEEE055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1CC36-C0DF-419A-B6BA-411D181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E12BA-A3C9-4741-AF49-1AF4A9F5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D6781-0D1D-4EE0-BCF0-F79FE35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BCC2A-2B7F-4466-AE8F-D262450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2E0F2-5174-4F66-AB67-6EF042C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99A5-7111-425C-BF13-E4DACA6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EC40A-90A9-43DF-9910-596B5B9A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4837A-CD77-43F3-8261-3480FA98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02ECC-2FD1-4595-A4E6-89149CB2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E37E-D87A-4BB0-96A5-104F7EF1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30B4-B345-4AB2-91C3-20C081E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12D-5C6E-4E0C-8120-EFDC9626E4F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3B9-E4E6-41D5-A3BC-0E7D5E002A4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33B-3103-4637-B695-330AB8953ED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4ADA-F272-4957-8837-8142EEEC748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94A-69CF-4553-A293-C26AFA42D7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CEE-AECB-4066-8731-9438036E911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1.bp.blogspot.com/-GT_P0AKYa74/TY7_5Y-U2MI/AAAAAAAACHU/XVTqZKT8SeM/s1600/warthog.jpg&amp;imgrefurl=http://true-wildlife.blogspot.com/2011/03/warthog.html&amp;usg=__qyM5iokMH41KPeXEEakwsJSsr4E=&amp;h=475&amp;w=639&amp;sz=84&amp;hl=en&amp;start=2&amp;zoom=1&amp;tbnid=e7O3m9eaRhJcoM:&amp;tbnh=102&amp;tbnw=137&amp;ei=swV-UO-xCoiXiAfzsYCQAg&amp;prev=/search%3Fq%3DWarthog%26um%3D1%26hl%3Den%26sa%3DN%26gbv%3D1%26tbm%3Disch&amp;um=1&amp;itbs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All About Warthog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Lucas, Channon, J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add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437000"/>
            <a:ext cx="25927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amoufl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y camouflage in trees, mud and tall 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raz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 Warthogs is the only pig adapted for Grazing in 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igh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s in Mating they fight if not m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arts of bod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have Facial w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They have long le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 They have two tusks coming out of there n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 They are incredibly like a short-haired guinea p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Jada, Lucas, Channon, Maddi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pe you liked our fa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pe you liked it :D :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have to go now because we got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ork to do now. :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94800" y="5589720"/>
            <a:ext cx="1249200" cy="1268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268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8820000" y="3494160"/>
            <a:ext cx="324000" cy="29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745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unny Pic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5086440"/>
            <a:ext cx="2533680" cy="1771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556000" y="5226120"/>
            <a:ext cx="1631880" cy="1631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211640" y="5057640"/>
            <a:ext cx="2857320" cy="1800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411280" y="2060640"/>
            <a:ext cx="2195640" cy="3101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0" y="2565360"/>
            <a:ext cx="2487600" cy="2492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84360" cy="25639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7020000" y="5157720"/>
            <a:ext cx="2268360" cy="1700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9"/>
          <a:stretch/>
        </p:blipFill>
        <p:spPr>
          <a:xfrm>
            <a:off x="7020000" y="2492280"/>
            <a:ext cx="2124000" cy="2665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0"/>
          <a:stretch/>
        </p:blipFill>
        <p:spPr>
          <a:xfrm>
            <a:off x="4788000" y="2781360"/>
            <a:ext cx="2076480" cy="2209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1"/>
          <a:stretch/>
        </p:blipFill>
        <p:spPr>
          <a:xfrm>
            <a:off x="4788000" y="1341360"/>
            <a:ext cx="190476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4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NZ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We Will be telling you about Warthog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This Picture is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warthog if you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Don’t know wh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it looks like just look right now and you’ll know!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55640" y="2478240"/>
            <a:ext cx="3960720" cy="246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iz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Female warthogs are about 48cm height and the width is about 61 c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Male warthogs are about 58 cm height and width is about 68 c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redators of a Warthog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A Main predator of a warthog is L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opards, Crocodiles, and hyenas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Another predator of a Warthog is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arthogs f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eat Tree Bark, Leaves, Dead Animals, Berries and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Warthogs don’t normally kill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 They often drop on their knees to 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home places are grasslands,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vanna, Forests, Sub-Saharan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trong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are 1 of the most strongest p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can sometimes beat lions using their tusks (hor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mar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’re Smartness can be up to 60%/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y mate with other Wartho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These pictures are Warthogs ma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732720" y="5253120"/>
            <a:ext cx="2411280" cy="1604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661080" y="0"/>
            <a:ext cx="2482920" cy="1538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1936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03:25Z</dcterms:created>
  <dc:creator>5f24</dc:creator>
  <dc:description/>
  <dc:language>en-US</dc:language>
  <cp:lastModifiedBy>Samuel</cp:lastModifiedBy>
  <dcterms:modified xsi:type="dcterms:W3CDTF">2012-11-08T20:41:17Z</dcterms:modified>
  <cp:revision>25</cp:revision>
  <dc:subject/>
  <dc:title>All About Warthogs</dc:title>
</cp:coreProperties>
</file>